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rfus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98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F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äng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9560" y="549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FZ verläng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200" y="6396840"/>
            <a:ext cx="26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FZ = kapilläre Füllungs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rfus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c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4720" y="549360"/>
            <a:ext cx="52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FZ verlänge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eneralisierte Perfus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200" y="6396840"/>
            <a:ext cx="26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FZ = kapilläre Füllungs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6T14:29:19Z</dcterms:modified>
  <cp:revision>331</cp:revision>
  <dc:subject/>
  <dc:title>Vorstellung einer Neuheit</dc:title>
</cp:coreProperties>
</file>